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4772-4057-4FFB-83A9-F69796338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DCA8-9AD3-4C28-B232-A8DD4A565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6985-308D-4502-B326-3485EE623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EE90-0A8D-4905-91A2-5E52E6E91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284-4D6C-4016-9E8B-04A0EECB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D43-C556-4227-93C7-BC65F37D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2A4-73CF-40E1-B27E-56D869DA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99A-468A-48BF-96F2-372D2D53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431-CC0B-40E1-8F05-9B7BC4E5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5DA-5EC4-4567-AC56-C6832D37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B73-380A-4C45-832F-BBFD94E3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83B-1CFA-450C-B671-10EF6D1C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97A-4971-480D-ACC8-450DF33F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15F-B4DA-411D-A916-C0DDC662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105-761C-4BC3-9E91-D12EFB15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98D-6250-4AA7-88FE-86F19037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7A38-69FD-4467-9B5E-AB8869B01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-125280" y="1374120"/>
            <a:ext cx="8503920" cy="5539320"/>
            <a:chOff x="-125280" y="1374120"/>
            <a:chExt cx="8503920" cy="5539320"/>
          </a:xfrm>
        </p:grpSpPr>
        <p:sp>
          <p:nvSpPr>
            <p:cNvPr id="49" name="Gear"/>
            <p:cNvSpPr/>
            <p:nvPr/>
          </p:nvSpPr>
          <p:spPr>
            <a:xfrm rot="447600">
              <a:off x="4640760" y="1597680"/>
              <a:ext cx="3598920" cy="237564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rot="447600">
              <a:off x="40680" y="2030400"/>
              <a:ext cx="4303080" cy="284004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rot="447600">
              <a:off x="2649600" y="3461400"/>
              <a:ext cx="4782240" cy="3154680"/>
            </a:xfrm>
            <a:prstGeom prst="pie">
              <a:avLst/>
            </a:prstGeom>
            <a:solidFill>
              <a:srgbClr val="c0c0c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Calibri"/>
              </a:rPr>
              <a:t>Now We Make Our Gears Wor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c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Program of Study for 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0880" y="1600200"/>
          <a:ext cx="8305920" cy="5187960"/>
        </p:xfrm>
        <a:graphic>
          <a:graphicData uri="http://schemas.openxmlformats.org/drawingml/2006/table">
            <a:tbl>
              <a:tblPr/>
              <a:tblGrid>
                <a:gridCol w="1078200"/>
                <a:gridCol w="1077840"/>
                <a:gridCol w="1141200"/>
                <a:gridCol w="1141560"/>
                <a:gridCol w="1077840"/>
                <a:gridCol w="1393920"/>
                <a:gridCol w="1395360"/>
              </a:tblGrid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mily-Focused Comprehensiv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CS Work of the Family Found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CS Work and Fami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al Purpose 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eer Focused 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ustry Learning Exper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rt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t-Secondary Arti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t-Secondary Dual-Cre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5" name="Picture 244" descr="gears"/>
          <p:cNvPicPr/>
          <p:nvPr/>
        </p:nvPicPr>
        <p:blipFill>
          <a:blip r:embed="rId1"/>
          <a:stretch/>
        </p:blipFill>
        <p:spPr>
          <a:xfrm>
            <a:off x="304920" y="380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5" descr="gears"/>
          <p:cNvPicPr/>
          <p:nvPr/>
        </p:nvPicPr>
        <p:blipFill>
          <a:blip r:embed="rId2"/>
          <a:stretch/>
        </p:blipFill>
        <p:spPr>
          <a:xfrm>
            <a:off x="8229600" y="380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Program of Study for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Calibri"/>
              </a:rPr>
              <a:t>Diete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1523880"/>
          <a:ext cx="1143000" cy="48754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67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Family-Focused Comprehensive Cour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FCS Work of t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Family Found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overing Family and Consumer Sci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eer and Family Leade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 and Wellne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y/ Individual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371600" y="1523880"/>
          <a:ext cx="1219320" cy="48769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FCS Work and Fami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Dual Purpose 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c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eer Development &amp; Entrepreneurshi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 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886200" y="1523880"/>
          <a:ext cx="1143000" cy="487692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Industry Learning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ship at health care facility, community agency or a foodservice corpo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24480" y="1523880"/>
          <a:ext cx="1219320" cy="4876920"/>
        </p:xfrm>
        <a:graphic>
          <a:graphicData uri="http://schemas.openxmlformats.org/drawingml/2006/table">
            <a:tbl>
              <a:tblPr/>
              <a:tblGrid>
                <a:gridCol w="121932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Post-Secondary Artic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east Missouri State Univers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-Human Environmental Stud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-Nutrition and Exerci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-Dietetic interns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590920" y="1523880"/>
          <a:ext cx="1295280" cy="48769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Career Focused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rvice Wor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linary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rvice Administration/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tician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029200" y="1523880"/>
          <a:ext cx="1295280" cy="48769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Cert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American Dietetic Association National Ex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543800" y="1523880"/>
          <a:ext cx="1295280" cy="487548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6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Calibri"/>
                        </a:rPr>
                        <a:t>Post-Secondary  Dual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east Missouri State Univers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-Human Environmental Stud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-Nutrition and Exerci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-Dietetic interns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1:56:22Z</dcterms:created>
  <dc:creator> </dc:creator>
  <dc:description/>
  <dc:language>en-US</dc:language>
  <cp:lastModifiedBy>clefon</cp:lastModifiedBy>
  <dcterms:modified xsi:type="dcterms:W3CDTF">2008-10-07T02:28:44Z</dcterms:modified>
  <cp:revision>20</cp:revision>
  <dc:subject/>
  <dc:title>Now We Make Our Gears Work</dc:title>
</cp:coreProperties>
</file>